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FBA-842E-4EE1-9FA3-F312407C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D78-1543-41FF-82E7-33802435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BE6-CEBD-4DD9-9590-BBB10557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A19-6830-49EB-93F1-BF8803F6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B94-C938-4684-BFD6-0BEA7A47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FF0-B80D-4A75-8CBF-D48A8FBD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C3A-24F2-4FC8-A2C5-6E4AF51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4F4-CCA3-4341-882B-AD6B66E2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80D-0355-4760-8297-4D792F0B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64B-D0D4-4363-88BE-EAE638C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05F-27D1-4EF1-9D4B-E894D3E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B32-350A-4E66-BA17-AD4BFB5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489D7-9857-49F7-8C0A-DE4969D0EA29}" type="slidenum"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56800" y="12460320"/>
            <a:ext cx="912492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Datum / čas / místo 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31760" y="23475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931760" y="50637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31760" y="777348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419600" y="477360"/>
            <a:ext cx="2700360" cy="149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647960" y="23443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647960" y="50605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647960" y="777060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364520" y="23490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364520" y="50652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7364520" y="7775640"/>
            <a:ext cx="2698560" cy="26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1221920"/>
            <a:ext cx="91249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ázev jednoty“ Vás zve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56800" y="12899520"/>
            <a:ext cx="91249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gram nebo popis a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11785680"/>
            <a:ext cx="9124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"/>
              </a:rPr>
              <a:t>Název ak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56800" y="13932000"/>
            <a:ext cx="912492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Webové stránky nebo další inform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20:44:10Z</dcterms:created>
  <dc:creator>Eliška</dc:creator>
  <dc:description/>
  <dc:language>en-US</dc:language>
  <cp:lastModifiedBy>Eliška</cp:lastModifiedBy>
  <dcterms:modified xsi:type="dcterms:W3CDTF">2016-08-30T10:47:43Z</dcterms:modified>
  <cp:revision>15</cp:revision>
  <dc:subject/>
  <dc:title>PowerPoint Presentation</dc:title>
</cp:coreProperties>
</file>