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691813" cy="151193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AFF7-377F-4036-81B3-19921A7BB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922176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5120" y="9035640"/>
            <a:ext cx="922176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4AD1-6C1A-4E52-9FB0-1D397004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6048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35120" y="90356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460480" y="90356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67F8-E93A-4DA4-98F1-7946D778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53080" y="40244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71400" y="40244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35120" y="90356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53080" y="90356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971400" y="90356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4285-8072-4FA6-83BA-24C87157E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5120" y="4024440"/>
            <a:ext cx="9221760" cy="959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922176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450000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460480" y="4024440"/>
            <a:ext cx="450000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460480" y="4024440"/>
            <a:ext cx="450000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35120" y="90356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35120" y="4024440"/>
            <a:ext cx="9221760" cy="959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8E09-9631-42AC-9B59-1CEF786E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450000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048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460480" y="90356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048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35120" y="9035640"/>
            <a:ext cx="922176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922176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35120" y="9035640"/>
            <a:ext cx="922176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6048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35120" y="90356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460480" y="90356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53080" y="40244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971400" y="40244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35120" y="90356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853080" y="90356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971400" y="9035640"/>
            <a:ext cx="296928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922176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B65F-60C5-4D76-AAE0-CE50E8E0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450000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460480" y="4024440"/>
            <a:ext cx="450000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ED06-3FD1-4D63-AAA6-A2E501D0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1E8C-9DF0-42B7-8844-302CD349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4600" y="603000"/>
            <a:ext cx="9622440" cy="1170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E5DD-EBB6-48E5-B911-0BEF4F28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60480" y="4024440"/>
            <a:ext cx="450000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35120" y="90356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9C1A-F7B8-447E-B881-776784C4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450000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048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460480" y="90356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CCD8-53E3-40D0-B3B4-1EF3497F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512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0480" y="4024440"/>
            <a:ext cx="450000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5120" y="9035640"/>
            <a:ext cx="9221760" cy="45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F433-5C53-4A62-BE69-9617474E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35120" y="4024440"/>
            <a:ext cx="922176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0172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3524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87020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40516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40516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40516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735120" y="14012640"/>
            <a:ext cx="2404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41320" y="14012640"/>
            <a:ext cx="360828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551360" y="14012640"/>
            <a:ext cx="24051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F91872-1C63-4A88-935F-364C6BBB9D81}" type="slidenum">
              <a:rPr b="0" lang="cs-CZ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735120" y="4024440"/>
            <a:ext cx="9221760" cy="959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0172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3524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87020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40516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40516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405160" indent="-26676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34600" y="603000"/>
            <a:ext cx="9622440" cy="252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856800" y="12460320"/>
            <a:ext cx="912492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Datum / čas / místo kon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931760" y="2347560"/>
            <a:ext cx="2700360" cy="2700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931760" y="5063760"/>
            <a:ext cx="2700360" cy="2700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931760" y="7773480"/>
            <a:ext cx="2700360" cy="2700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7419600" y="477360"/>
            <a:ext cx="2700360" cy="1497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4647960" y="2344320"/>
            <a:ext cx="2700360" cy="2700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4647960" y="5060520"/>
            <a:ext cx="2700360" cy="2700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4647960" y="7770600"/>
            <a:ext cx="2700360" cy="2700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>
            <a:off x="7364520" y="2349000"/>
            <a:ext cx="2698560" cy="2698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>
            <a:off x="7364520" y="5065200"/>
            <a:ext cx="2698560" cy="2698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1"/>
          <a:stretch/>
        </p:blipFill>
        <p:spPr>
          <a:xfrm>
            <a:off x="7364520" y="7775640"/>
            <a:ext cx="2698560" cy="26985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56800" y="11221920"/>
            <a:ext cx="9124920" cy="3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„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ázev jednoty“ Vás zve 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56800" y="12899520"/>
            <a:ext cx="9124920" cy="8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Program nebo popis ak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56800" y="11785680"/>
            <a:ext cx="912492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  <a:ea typeface="Arial"/>
              </a:rPr>
              <a:t>Název ak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56800" y="13932000"/>
            <a:ext cx="9124920" cy="41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76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Webové stránky nebo další inform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24T20:44:10Z</dcterms:created>
  <dc:creator>Eliška</dc:creator>
  <dc:description/>
  <dc:language>en-US</dc:language>
  <cp:lastModifiedBy>Eliška</cp:lastModifiedBy>
  <dcterms:modified xsi:type="dcterms:W3CDTF">2016-08-30T10:47:43Z</dcterms:modified>
  <cp:revision>15</cp:revision>
  <dc:subject/>
  <dc:title>PowerPoint Presentation</dc:title>
</cp:coreProperties>
</file>